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CBF-A52F-464F-AC98-0367D432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B95-796F-42C1-9A54-DB606DDE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6DB-96BF-4242-8258-55117E94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EEE-573E-48C4-B6E0-1F5C0A7F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4678D-FB3D-4CC0-BA8D-97FD8DB7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0E53D-4C98-4B77-95E4-62E757D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00CBE-D174-4025-AF1E-8F0EABF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13745-BA5D-428F-8E55-1396A75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4529C-4B5E-4D24-A13B-6FB0AE7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BE28-CB86-4189-A73A-E90C2AF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102C-BABE-4A18-97CB-3FB4004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695-4042-4D54-BEE1-D124292D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2A47-18A1-4D74-9F89-601171E8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4D835-2BDF-4B23-A937-C4818B7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DE7EA-63E2-43CD-9FBE-057E365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79C31-CB13-4759-AF0D-011D9BED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1F15-1CE9-46E0-BF7E-EE08C2D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E71-8F09-45EA-AE80-82A0C5A7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B00-E0E1-4E14-A932-2BE1FCB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B64-2A1E-4A3F-B777-5F62241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980-1509-4CD2-B008-D5B413F6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49F-258E-4D5A-A1CA-D15BBA9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D2C-5B3D-42DA-83B1-939488B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51E-B7F2-400A-861D-A961A8A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677-68CB-468C-B026-E24E8F95739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F8D1-2BC4-4E0D-B01F-4F02A4AB864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6/discurso/discurso.s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DETERMINANTES DEL SUSTANTIVO: ADJETIVOS POSE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establecen una relación de posesión entre las personas gramaticales  y cualquier otra entidad personal, material  o i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 usa la forma tónic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ando el sustantivo al que se refiere la posesión es precedido por: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interrog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é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corbata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te gusta más?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monstr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se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o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es un estúpido  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numer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an venid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o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o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-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indefini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lguna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a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a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son españo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Si presentamos un elemento nuev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l sustantivo va introducido por un determinante de primera mención (un/una, Algún/alguna, ningún/ninguna, cualqu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Te presento a José. Es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un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compañero </a:t>
            </a:r>
            <a:r>
              <a:rPr b="0" i="1" lang="it-IT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de escu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i nos referimos a un sostantivo que ya ha aparecido en el contex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troducimos un determinante de segunda mención (generalmente un 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demostrativ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: este/a , ese/a, aquel/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No se acordaba de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aquel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amigo </a:t>
            </a:r>
            <a:r>
              <a:rPr b="0" i="1" lang="it-IT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que le presenté el año pas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l informar sobre la propiedadad con respecto a un sustant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forma tónica se halla sola o va introducida por el serbo “s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 tuya esta mochila? No, 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i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s aqu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?De quién es éste? Es </a:t>
            </a:r>
            <a:r>
              <a:rPr b="0" i="1" lang="it-IT" sz="2800" spc="-1" strike="noStrike">
                <a:solidFill>
                  <a:srgbClr val="ff0066"/>
                </a:solidFill>
                <a:latin typeface="Verdana"/>
              </a:rPr>
              <a:t>m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a forma tón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cuerda en género y número con la cosa poseí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sivos de III persona singular y plural coinciden :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ntonio está en ca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l coche que está delante de la puerta e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ntonio y Pedro están  en casa. El coche que está delante de la puerta e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tiene acento de palabra sino se apoya siempre en los sustantivos que precede como un  verdade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l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 siempr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nt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 que determina y no puede ir acompañada por ningún otro determinante del susta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o en italiano, después del posesivo puede haber uno o más adjetivos (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querid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amigo). </a:t>
            </a:r>
            <a:br>
              <a:rPr sz="2800"/>
            </a:b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de esta forma so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ctualiza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 (como  artículos o indefinidos) porque permiten que éste funcione en singular como sujeto preverba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Mi coche es azu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en objetos  identificables entre todos los demás por su relación con algo o alguien. No hay más y son los únicos de los que hemos hablad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Los+adjetivos+y+pronombres+posesivos"/>
          <p:cNvPicPr/>
          <p:nvPr/>
        </p:nvPicPr>
        <p:blipFill>
          <a:blip r:embed="rId1"/>
          <a:stretch/>
        </p:blipFill>
        <p:spPr>
          <a:xfrm>
            <a:off x="0" y="-417600"/>
            <a:ext cx="86043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, tu , su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no concuerdan con el género de las cosas: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Mi casa, mi perro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cuerdan en el número de las cosas poseídas: 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 tu su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la cosa poseída es singul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s tus sus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 plu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su amigo = il  suo/ il loro amico   - sus amigos= i suoi/ i loro amic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Nuestro/a y vuestro/a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cuerdan en género y número con el sustantivo a que se refi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l uso de esta forma puede referirse a relaciones de tipo extralinguí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sesión: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Me gusta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tu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fal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arentesco: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Su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madre está en la coc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tenencia de la persona con respecto a un grupo: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oficina hay un nuevo emple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elación con objetos que normalmente se utiliz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Los guantes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stán encima de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c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elación con instituciones: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Puedes abrir una cuenta en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ban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os poses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siempre se trata de una relación de posesión propiamente di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menudo sirve para situar el sustantivo con respecto a un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polivalencia entr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su y 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uede crear ambigue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l caso en que el contexto no ayude a desambigu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DE+ pronombre persona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de él , de ella, de ellos, de ella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tonio ha salido con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amigos para ir a Roma. ¿En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 o en el coche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de ellos?</a:t>
            </a:r>
            <a:r>
              <a:rPr b="0" lang="es-E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mbinación con el artículo neutro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mbién el artículo neutro </a:t>
            </a:r>
            <a:r>
              <a:rPr b="1" lang="es-ES" sz="3200" spc="-1" strike="noStrike">
                <a:solidFill>
                  <a:srgbClr val="ff0066"/>
                </a:solidFill>
                <a:latin typeface="Tahoma"/>
              </a:rPr>
              <a:t>l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puede aparecer delante del poses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no es grave.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sí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 il tuo problema /la mia facce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mbinación con el artículo en otras 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s precedido por el artículo, el posesivo se sustantiviza de manera parecida al italian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rlos ha hecho una de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las suy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os míos, los tuyos, los suy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referido a los familiares)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contestación a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suy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Nominalizaciones que no corresponden al itali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91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 es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nuest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oportunidad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m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tuy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suya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intenzione)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verbo salir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 vez Antonio no ha salido con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suy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Non l’ha avuta vinta 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arios significados 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o mío, lo tuyo, lo suy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specialida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as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mí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es la mús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anera de ser, comportami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tuy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no tiene remed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sunto, problem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eñor director, ¿puede decirme cómo va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mí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l operador </a:t>
            </a:r>
            <a:r>
              <a:rPr b="1" lang="it-IT" sz="3200" spc="-1" strike="noStrike">
                <a:solidFill>
                  <a:srgbClr val="ff0066"/>
                </a:solidFill>
                <a:latin typeface="Verdana"/>
              </a:rPr>
              <a:t>prop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ara evitar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ambiguedad y explicitar un posesivo se usa también </a:t>
            </a:r>
            <a:r>
              <a:rPr b="1" i="1" lang="it-IT" sz="3200" spc="-1" strike="noStrike">
                <a:solidFill>
                  <a:srgbClr val="ff0066"/>
                </a:solidFill>
                <a:latin typeface="Tahoma"/>
              </a:rPr>
              <a:t>propio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De preocupa sólo de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su propio inter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Quieren la forma t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voc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¡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ios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! 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mo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dre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pero tambié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mor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bre todo en unos países hispanoamericanos)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iertas formas epistul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uy seño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/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uy señores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nues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Se usa la forma á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 entre posesivo y nombr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hay otr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dje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1" i="1" lang="es-ES" sz="32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bue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Dios, ayúd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nguaje mili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 sus órdenes,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coro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 entre determinantes posesivos y demonstr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determinantes d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egunda men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mo los demostr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úan un sustantivo que ya ha aparecido explícita o implícitamente en el contexto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er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pose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= relación que se define co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respeto a sí mis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demost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= relación que se define con respecto a l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coordenadas del acto de enunci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alternarse los turnos de palabra cambiará el poses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os poses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muchos casos pueden indicar relaciones situacionales, de familiaridad, de particip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pasa en italiano y en españ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á llegando Mario. Todos esperaba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su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le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Tu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jer es simpá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Ven a </a:t>
            </a: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ivers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IGNIFICACIÓN DE LOS DETERMINANTES POSE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osesivos relacionan objetos con personas gramaticales del </a:t>
            </a:r>
            <a:r>
              <a:rPr b="0" lang="es-E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discurso</a:t>
            </a:r>
            <a:r>
              <a:rPr b="0" lang="es-ES" sz="2800" spc="-1" strike="noStrike">
                <a:solidFill>
                  <a:srgbClr val="0101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Guardan una estrecha relación con los pronombres personal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os gramáticos los han considerado como genitivos de ést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Giraba alrededor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y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 él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 que hizo lo puso a favor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nuestr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 nosotros).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ueden tener un mati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nfático-afectiv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Yo, con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nuestra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asita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nuestr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jardincito y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tu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ariño soy feliz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leonásti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enumeraciones o descripcione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¡Bienvenido sea mayo con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luz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ántico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flore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perfume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risa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amores...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s con el italiano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tinción e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forma átona y forma tón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distingue formalmente cuando el posesor es único y cuando son v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libro = il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su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or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(Un  libro 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= un suo  o un loro lib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s con el inglé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Generalmente no se usa el posesivo para referirse a partes del cuerpo  o a efectos personales, sino el artícu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Me duele la espa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9231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osesivos forma tó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Pronombres_Posesivos"/>
          <p:cNvPicPr/>
          <p:nvPr/>
        </p:nvPicPr>
        <p:blipFill>
          <a:blip r:embed="rId1"/>
          <a:stretch/>
        </p:blipFill>
        <p:spPr>
          <a:xfrm>
            <a:off x="1258920" y="1747800"/>
            <a:ext cx="6265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a  forma tónica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(mío, tuyo,suyo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uede aparecer sola o al lado de un sustantivo al que sigue. Con frecuencia va acompañada por un determinante del sustantiv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lgunos amigos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mío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van al 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de esta forma desarrollan la funció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odifica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, como cualquier adjetiv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o sea dan un elemento nuevo de información sobre el sustan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 con el itali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cuerda en todas las personas en género y número con el sustantivo al que se refiere, no con el pose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Mario y José son hermanos. </a:t>
            </a:r>
            <a:r>
              <a:rPr b="0" i="1" lang="it-IT" sz="3200" spc="-1" strike="noStrike" u="sng">
                <a:solidFill>
                  <a:srgbClr val="ff0066"/>
                </a:solidFill>
                <a:uFillTx/>
                <a:latin typeface="Tahoma"/>
              </a:rPr>
              <a:t>Su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padre se llama Pe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Ana estudia idiomas extranjeros. </a:t>
            </a:r>
            <a:r>
              <a:rPr b="0" i="1" lang="it-IT" sz="3200" spc="-1" strike="noStrike" u="sng">
                <a:solidFill>
                  <a:srgbClr val="ff0066"/>
                </a:solidFill>
                <a:uFillTx/>
                <a:latin typeface="Tahoma"/>
              </a:rPr>
              <a:t>Sus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idiomas favoritos son el inglés y el portugu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a  forma tón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n combinarse con artículos, indefinidos o demostr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Un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novela </a:t>
            </a:r>
            <a:r>
              <a:rPr b="0" i="1" lang="es-ES" sz="3200" spc="-1" strike="noStrike" u="sng">
                <a:solidFill>
                  <a:srgbClr val="ff0066"/>
                </a:solidFill>
                <a:uFillTx/>
                <a:latin typeface="Tahoma"/>
              </a:rPr>
              <a:t>suy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a ganado el prem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No soport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s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manía </a:t>
            </a:r>
            <a:r>
              <a:rPr b="0" i="1" lang="es-ES" sz="3200" spc="-1" strike="noStrike" u="sng">
                <a:solidFill>
                  <a:srgbClr val="ff0066"/>
                </a:solidFill>
                <a:uFillTx/>
                <a:latin typeface="Tahoma"/>
              </a:rPr>
              <a:t>tuy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de gritarm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1-02T15:25:32Z</dcterms:modified>
  <cp:revision>41</cp:revision>
  <dc:subject/>
  <dc:title>Diapositiva 1</dc:title>
</cp:coreProperties>
</file>